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244F3-CC3C-4711-8C8A-0B0C40216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A6A6B-7D4A-4A6E-9B85-85D6EE8F8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4D9E6-1D81-4979-AF23-B8AD7B790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691CF-EB3C-4866-B4FB-E51169904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2B41A-8E5D-41E3-80AE-CAA3DE50A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7ACD7-316E-4FE0-9576-AF3727C81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C2005-2834-472D-B019-2C81501DB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1F8A3-CC33-44E3-87E1-E011D787F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13DAD-86A0-4176-A3D1-B8761ECFD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A41FC-679D-4E42-8443-D55270768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B6761-2ED7-4EC0-B5F7-AD9331FFA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AF1AB-555D-42E7-AFF5-25FFE8EC43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FE790-32C2-4C5B-A718-9409B7F8857E}"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122120"/>
            <a:ext cx="6858000" cy="22352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Light"/>
              </a:rPr>
              <a:t>7. HAFTA</a:t>
            </a:r>
            <a:br>
              <a:rPr sz="3600"/>
            </a:br>
            <a:r>
              <a:rPr b="0" lang="tr-TR" sz="3600" spc="-1" strike="noStrike">
                <a:solidFill>
                  <a:srgbClr val="000000"/>
                </a:solidFill>
                <a:latin typeface="Calibri Light"/>
              </a:rPr>
              <a:t>YAZILI KOMPOZİSYON TÜRLERİ</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16000" y="142920"/>
            <a:ext cx="7848720" cy="623880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alibri"/>
              </a:rPr>
              <a:t> </a:t>
            </a:r>
            <a:r>
              <a:rPr b="1" lang="tr-TR" sz="1700" spc="-1" strike="noStrike">
                <a:solidFill>
                  <a:srgbClr val="000000"/>
                </a:solidFill>
                <a:latin typeface="Calibri"/>
              </a:rPr>
              <a:t>4.</a:t>
            </a:r>
            <a:r>
              <a:rPr b="0" lang="tr-TR" sz="1700" spc="-1" strike="noStrike">
                <a:solidFill>
                  <a:srgbClr val="000000"/>
                </a:solidFill>
                <a:latin typeface="Calibri"/>
              </a:rPr>
              <a:t> Dilekçeye, sorun hangi kurumu ilgilendiriyorsa ona hitap edilerek başlanır. Hitap, kurumun idari yapısına uygun olmalı ve eksiksiz yazılmalıdır. Dilekçe sadece kurumlara yazılabileceğinden “şahıslara” dilekçe yazılamaz.</a:t>
            </a:r>
            <a:endParaRPr b="0" lang="en-US" sz="17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alibri"/>
              </a:rPr>
              <a:t>	</a:t>
            </a:r>
            <a:endParaRPr b="0" lang="en-US" sz="17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alibri"/>
              </a:rPr>
              <a:t>5.</a:t>
            </a:r>
            <a:r>
              <a:rPr b="0" lang="tr-TR" sz="1700" spc="-1" strike="noStrike">
                <a:solidFill>
                  <a:srgbClr val="000000"/>
                </a:solidFill>
                <a:latin typeface="Calibri"/>
              </a:rPr>
              <a:t> Hitaptan sonra dilekçenin metni başlar. Kısa bir tanıtımdan sonra dilek (istek, sorun, şikâyet...) yazılır. Dilekçede ciddi, resmî, saygılı bir dil ve üslûp kullanılmalı, nesnel olunmalıdır. İstenen şey yasalara uygun olmalı; yasal çerçeve kesinlikle aşılmamalıdır. Bir şikâyet söz konusu ise sorun mutlaka belgelere ve tanıklara dayandırılarak açıklanmalıdır. </a:t>
            </a:r>
            <a:endParaRPr b="0" lang="en-US" sz="17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	</a:t>
            </a:r>
            <a:r>
              <a:rPr b="0" lang="tr-TR" sz="1700" spc="-1" strike="noStrike">
                <a:solidFill>
                  <a:srgbClr val="000000"/>
                </a:solidFill>
                <a:latin typeface="Calibri"/>
              </a:rPr>
              <a:t>Dilekçe metni arz cümlesiyle tamamlanır. Arz cümlesinde hiyerarşik düzene dikkat edilmelidir. Bir konuda üst makamdan bir şey talep edilirken “arz ederim”, ast makamdan bir şey talep edilirken “rica ederim” ifadesi kullanılır.  </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042560" y="-360"/>
            <a:ext cx="7705800" cy="6429240"/>
          </a:xfrm>
          <a:prstGeom prst="rect">
            <a:avLst/>
          </a:prstGeom>
          <a:noFill/>
          <a:ln w="0">
            <a:noFill/>
          </a:ln>
        </p:spPr>
        <p:txBody>
          <a:bodyPr anchor="t">
            <a:no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0" lang="tr-TR" sz="1900" spc="-1" strike="noStrike">
                <a:solidFill>
                  <a:srgbClr val="000000"/>
                </a:solidFill>
                <a:latin typeface="Calibri"/>
              </a:rPr>
              <a:t> </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6.</a:t>
            </a:r>
            <a:r>
              <a:rPr b="0" lang="tr-TR" sz="1900" spc="-1" strike="noStrike">
                <a:solidFill>
                  <a:srgbClr val="000000"/>
                </a:solidFill>
                <a:latin typeface="Calibri"/>
              </a:rPr>
              <a:t> Dilekçe metni tamamlandıktan sonra sağ tarafa (veya sağ en üst köşeye) tarih atılır. Tarihin altına dilekçeyi verenin adı soyadı yazılır ve imzalanır. Bir dilekçede sadece bir imza bulunması gerektiği ve imzasız dilekçelerin geçersiz olduğu  unutulmamalıdır. Ortak bir konuda birden fazla kişi aynı dilekte bulunacaksa bunlar da dileklerini ayrı ayrı dilekçelerle belirtmelidirler.</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7</a:t>
            </a:r>
            <a:r>
              <a:rPr b="0" lang="tr-TR" sz="1900" spc="-1" strike="noStrike">
                <a:solidFill>
                  <a:srgbClr val="000000"/>
                </a:solidFill>
                <a:latin typeface="Calibri"/>
              </a:rPr>
              <a:t>. Dilekçe imzalandıktan sonra sol tarafa açık adres yazılır. </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8.</a:t>
            </a:r>
            <a:r>
              <a:rPr b="0" lang="tr-TR" sz="1900" spc="-1" strike="noStrike">
                <a:solidFill>
                  <a:srgbClr val="000000"/>
                </a:solidFill>
                <a:latin typeface="Calibri"/>
              </a:rPr>
              <a:t> Dilekçeye eklenecek ek belgeler varsa adresi yazdıktan sonra  "ekler " başlığı altında maddeler halinde sıralanmalıdır. Evrakın kaybolmaması için (varsa) ekler mutlaka belirtilmelidir.</a:t>
            </a:r>
            <a:endParaRPr b="0" lang="en-US" sz="19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323640" y="0"/>
            <a:ext cx="8280360" cy="657216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Dilekçe yukarıda sıralanan özellikleri taşımıyorsa işleme konulmayabilir. Ayrıca dilekçenin hangi makamda olduğunu takip etmek ve yasal süreci takip edebilmek için ilgili kurumca dilekçeye verilen kayıt numarası alınmalıdır. Bir kuruma yazdığınız dilekçeye kurum en geç otuz gün içinde cevap vermelidir. Evrak numarasıyla bu süreç de takip edilebilir.</a:t>
            </a:r>
            <a:br>
              <a:rPr sz="2400"/>
            </a:b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899640" y="0"/>
            <a:ext cx="7775640" cy="674208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Tarih</a:t>
            </a:r>
            <a:endParaRPr b="0" lang="en-US" sz="1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NİSA CELAL BAYAR ÜNİVERSİTESİ </a:t>
            </a:r>
            <a:endParaRPr b="0" lang="en-US" sz="20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UYGULAMALI BİLİMLER YÜKSEKOKULU MÜDÜRLÜĞÜNE </a:t>
            </a:r>
            <a:endParaRPr b="0" lang="en-US" sz="20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Yüksekokulunuzun Bankacılık ve Finans   Bölümü 0000007 numaralı öğrencisiyim. 2017-2018 Öğretim Yılı Bahar Yarıyılı sonunda mezun olmak için bütün derslerimden başarılı oldum. </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Mezuniyet durumumun incelenerek işlemlerimin başlatılması için gereğini arz ederim.</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İmza)</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d-Soyad</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Adres:</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Ekler:</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755640" y="0"/>
            <a:ext cx="7704000" cy="650088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2.Günlük</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Bir kimsenin düzenli olarak, günlük olaylarla ilgili yorumlarını bunlardan kaynaklanan o günkü anlayışlarını, düşüncelerini, üstüne tarih atarak kaleme aldığı kısa yazılara günlük denir. </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Edebiyatımızda Nurullah Ataç (Günce), Oğuz Atay (Günlük) ve Cemal Süreya (Günler) günlük türünde eser vermiş sanatçılardı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Günlük ile hatıra birbirine karıştırılmamalıdır. Günlüklerde yaşanan olaylar günü gününe yazıya geçirilirken hatıralar yıllar sonra yazılabilir. Bu itibarla gerçeğe uygunluk bakımından günlükler, anılara göre daha fazla inandırıcıdırlar. </a:t>
            </a:r>
            <a:endParaRPr b="0" lang="en-US" sz="20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899640" y="620640"/>
            <a:ext cx="7775640" cy="568800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ATAÇ’TAN</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17 Nisan Cuma, 1953</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Baktım çocuklar uçurtma uçuruyor. Her yıl, ilkyaz aylarında, uçurtmayı gördüm mü, bir üzünç duyarım içimde, ağlamaklı olurum. Ben uçurtma uçurmadım ki! Çocukluğumda pek isterdim, o renk renk kâğıtlardan yapılmış uçurtmaların havalanmasına içimi çekerek bakardım. Annem bırakmazdı beni uçurtma uçurmama. Günah mıymış neymiş, öyle bir şey uydurmuştu.</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Çocukluğum olmadı benim. Çocukluğu olmayanın gençliği de olmaz. Bir şey söyleyeyim mi ben size? İhtiyarlığı da olmuyor böylesinin. Hani güzel bir ihtiyarlık vardır, insan çocukluğunda yaptıklarını, gençliğinde yaptıklarını hatırlar, anlatır da gözlerinin içi parlar, ben kendimde değil, başkalarında gördüm onu. Çocukluğu, gençliği olmamış kişinin yaşlılığında da bir tatsızlık var, yalnız ölümü düşünüyor, ölümden korkuyor, işte o kadar.</a:t>
            </a:r>
            <a:endParaRPr b="0" lang="en-US" sz="1500" spc="-1" strike="noStrike">
              <a:solidFill>
                <a:srgbClr val="000000"/>
              </a:solidFill>
              <a:latin typeface="Calibri"/>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Günce: 1)</a:t>
            </a:r>
            <a:endParaRPr b="0" lang="en-US" sz="15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755280" y="-360"/>
            <a:ext cx="7993080" cy="616572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r>
              <a:rPr b="1" lang="tr-TR" sz="1500" spc="-1" strike="noStrike">
                <a:solidFill>
                  <a:srgbClr val="000000"/>
                </a:solidFill>
                <a:latin typeface="Calibri"/>
              </a:rPr>
              <a:t>3.Hatıra</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Toplum hayatında önemli görevler üstlenmiş, toplumu ilgilendiren önemli olayları bizzat yaşamış veya bu olaylara şahit olmuş kişilerin bu olayları duyurmak için sanat değeri taşıyan bir üslupla yazdıkları yazılara hatıra denir.</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Hatıralarda dürüstlük, samimiyet, doğruluk ve tarafsızlık ön planda olmalıdır. Ancak hatıralar yazarın kendi bakış açısına göre anlatıldığı için aynı olaylar hakkında farklı kimseler tarafından yazılan hatıralar arasında bazı farklar olabilir. Bu sebeple hatıralar her ne kadar yaşanmış olaylarla ilgili olsa da tarihi bir belge olarak kullanılamazlar.</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Halide Edip “Mor Salkımlı Ev”, Halit Ziya Uşaklıgil “Kırk Yıl”, “Saray ve Ötesi”, Yakup Kadri Karaosmanoğlu “Anamın Kitabı”, “Gençlik ve Edebiyat Hatıraları”, “Zoraki Diplomat”, Mina Urgan “Bir Dinozorun Hatıraları” edebiyatımızdaki hatıra örnekleridir. </a:t>
            </a:r>
            <a:endParaRPr b="0" lang="en-US" sz="15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42560" y="0"/>
            <a:ext cx="7705800" cy="602136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000" spc="-1" strike="noStrike">
                <a:solidFill>
                  <a:srgbClr val="000000"/>
                </a:solidFill>
                <a:latin typeface="Calibri"/>
              </a:rPr>
              <a:t>4.Hayat Öyküsü/Biyografi</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Edebiyat, sanat, spor, sosyal ve fen bilimleri dalları ile öteki konularda ün yapmış bir şahsın hayatının anlatıldığı türe hayat öyküsü ve biyografi denir. Yazarın kendi hayatını yazdığı biyografiye ise otobiyografi deni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Biyografi türündeki yazılar gözlemden çok, tanıtılacak kişinin hayat ve eserlerinin araştırılması, onlar hakkında bilgi toplanması sonucu yazılırlar. Biyografi yazıları kişisel anılara veya araştırma sonucu elde edilen malzemelerin düzenlenmesiyle de yazılabili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42920" y="0"/>
            <a:ext cx="7561440" cy="63086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Ünlü kişilerin hayatlarını konu alan, bunları roman tarzında işleyen edebî yazılara ise biyografik roman deni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Biyografik romanlarda kişinin ruhsal ve fiziksel özellikleri, davranışları, duyguları, düşünceleri, tepkileri, tavır alışları, giyinişi gibi pek çok değişik özellikleri ayrıntılı olarak verilip bir anlamda onun portresi çizilir.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Tahir Alangu'nun “Ömer Seyfettin"(1968)  ve Oğuz Atay’ın "Bir Bilim Adamının Romanı" (1975)  bu türün en iyi örneklerindend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1258560" y="620640"/>
            <a:ext cx="7705800" cy="612144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YNAKÇA:</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AKSARAYLI İsmail (2007), Türk Dili, Manisa: Emek Matbaacılık.</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AKTAŞ Şerif, GÜNDÜZ Osman (2005), Yazılı ve Sözlü Anlatım Kompozisyon Sanatı, Ankara: Akçağ Yayınları.</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DİLEKCAN Fahri, İNAL Polat (2010), Dil ve Anlatım, Ankara: Esen Yayınları.</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EMİROSMANOĞLU Ali(2006), Üniversiteler İçin Türk Dili, Manisa: Emek Matbaacılık.</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GÜLENSOY Tuncer, Türkçe El Kitabı, Ankara: Akçağ Yayınları.</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SOY Yakup, vd. (2001), Üniversiteler İçin Türk Dili ve Kompozisyon Bilgileri, Konya: Selçuk Üniversitesi Yaşatma ve Geliştirme Vakfı Yayınları.</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42560" y="620640"/>
            <a:ext cx="7777080" cy="612144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Yazılı kompozisyon, düşünce yazılarından bilim yazılarına; şiir, hikâye ve romanlardan inceleme yazılarına; gazete haberlerinden reklam metinlerine kadar sanat gayesi tutan ve tutmayan bütün yazı türlerini içine al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755280" y="0"/>
            <a:ext cx="806436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Yazılı kompozisyon türlerini öğretici metinler ve sanat metinleri olarak ikiye ayırabiliriz.</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Öğretici metin denilince, adından da anlaşılacağı gibi okuyucuya bilgi vermek, onun düşünce ve kanaatlerini değiştirmek veya kuvvetlendirmek kastıyla kaleme alınan metinler anlaşılmalıdır.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Sanat metinleri denilince, bir sanatkar tarafından yaratılan gerçek dünya ile ilişkili ama kendine göre bir gerçekliği olan dünyayı kastettiğimiz anlaşılmalıd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2 Alt Başlık" descr=""/>
          <p:cNvPicPr/>
          <p:nvPr/>
        </p:nvPicPr>
        <p:blipFill>
          <a:blip r:embed="rId1"/>
          <a:stretch/>
        </p:blipFill>
        <p:spPr>
          <a:xfrm>
            <a:off x="109440" y="189000"/>
            <a:ext cx="8858520" cy="6126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755280" y="620280"/>
            <a:ext cx="7993080" cy="55450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1. Mektup</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Birbirinden ayrı yerlerde bulunan kişi veya kurumlar arasında özel veya resmi haberleşmeyi sağlayan yazı türüne mektup denir. Mektuplar konularına ve yazılış üsluplarına göre; özel mektuplar, iş mektupları, resmi mektuplar, edebi mektuplar, açık mektup gibi çeşitlere ayrılır.</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endParaRPr b="0" lang="en-US" sz="2400" spc="-1" strike="noStrike">
              <a:solidFill>
                <a:srgbClr val="000000"/>
              </a:solidFill>
              <a:latin typeface="Calibri"/>
            </a:endParaRPr>
          </a:p>
          <a:p>
            <a:pPr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611280" y="0"/>
            <a:ext cx="8137440" cy="6237360"/>
          </a:xfrm>
          <a:prstGeom prst="rect">
            <a:avLst/>
          </a:prstGeom>
          <a:noFill/>
          <a:ln w="0">
            <a:noFill/>
          </a:ln>
        </p:spPr>
        <p:txBody>
          <a:bodyPr anchor="t">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	</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Kişilerin anne, baba, akraba, arkadaş gibi yakınlarına yazdıkları mektuplara </a:t>
            </a:r>
            <a:r>
              <a:rPr b="0" i="1" lang="tr-TR" sz="1900" spc="-1" strike="noStrike">
                <a:solidFill>
                  <a:srgbClr val="000000"/>
                </a:solidFill>
                <a:latin typeface="Calibri"/>
              </a:rPr>
              <a:t>özel mektup </a:t>
            </a:r>
            <a:r>
              <a:rPr b="0" lang="tr-TR" sz="1900" spc="-1" strike="noStrike">
                <a:solidFill>
                  <a:srgbClr val="000000"/>
                </a:solidFill>
                <a:latin typeface="Calibri"/>
              </a:rPr>
              <a:t>denir. </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i="1" lang="tr-TR" sz="1900" spc="-1" strike="noStrike">
                <a:solidFill>
                  <a:srgbClr val="000000"/>
                </a:solidFill>
                <a:latin typeface="Calibri"/>
              </a:rPr>
              <a:t>Edebi mektuplar</a:t>
            </a:r>
            <a:r>
              <a:rPr b="0" lang="tr-TR" sz="1900" spc="-1" strike="noStrike">
                <a:solidFill>
                  <a:srgbClr val="000000"/>
                </a:solidFill>
                <a:latin typeface="Calibri"/>
              </a:rPr>
              <a:t>, esas itibariyle özel mektuplardır. Ancak yazarları, içerikleri ve anlatım şekilleriyle, içinde özel hususların az olmasıyla,  özel mektuplar içinde ayrı bir yer tutarlar. Bu tarz mektuplardan yazıldıkları döneme ait sanat, edebiyat ve fikir olayları hakkında bilgi edinmek de mümkündür.</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Herhangi bir düşüncenin gazete (dergi, televizyon, internet) aracılığıyla halka duyurulması amacıyla yayımlanan mektuplara </a:t>
            </a:r>
            <a:r>
              <a:rPr b="0" i="1" lang="tr-TR" sz="1900" spc="-1" strike="noStrike">
                <a:solidFill>
                  <a:srgbClr val="000000"/>
                </a:solidFill>
                <a:latin typeface="Calibri"/>
              </a:rPr>
              <a:t>açık mektup </a:t>
            </a:r>
            <a:r>
              <a:rPr b="0" lang="tr-TR" sz="1900" spc="-1" strike="noStrike">
                <a:solidFill>
                  <a:srgbClr val="000000"/>
                </a:solidFill>
                <a:latin typeface="Calibri"/>
              </a:rPr>
              <a:t>denir. </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i="1" lang="tr-TR" sz="1900" spc="-1" strike="noStrike">
                <a:solidFill>
                  <a:srgbClr val="000000"/>
                </a:solidFill>
                <a:latin typeface="Calibri"/>
              </a:rPr>
              <a:t>İş mektupları</a:t>
            </a:r>
            <a:r>
              <a:rPr b="0" lang="tr-TR" sz="1900" spc="-1" strike="noStrike">
                <a:solidFill>
                  <a:srgbClr val="000000"/>
                </a:solidFill>
                <a:latin typeface="Calibri"/>
              </a:rPr>
              <a:t>, ticari kuruluşların birbirlerine gönderdikleri ticari ilişkileri ile ilgili mektuplardır.</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endParaRPr b="0" lang="en-US" sz="1900" spc="-1" strike="noStrike">
              <a:solidFill>
                <a:srgbClr val="000000"/>
              </a:solidFill>
              <a:latin typeface="Calibri"/>
            </a:endParaRPr>
          </a:p>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610920" y="-360"/>
            <a:ext cx="7993080" cy="63817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İş mektubu örneği; </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0" lang="tr-TR" sz="1400" spc="-1" strike="noStrike">
                <a:solidFill>
                  <a:srgbClr val="000000"/>
                </a:solidFill>
                <a:latin typeface="Calibri"/>
              </a:rPr>
              <a:t>25.05.2000</a:t>
            </a:r>
            <a:r>
              <a:rPr b="0" lang="tr-TR" sz="1400" spc="-1" strike="noStrike">
                <a:solidFill>
                  <a:srgbClr val="000000"/>
                </a:solidFill>
                <a:latin typeface="Calibri"/>
              </a:rPr>
              <a:t>	</a:t>
            </a:r>
            <a:endParaRPr b="0" lang="en-US" sz="14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Ali Turan</a:t>
            </a:r>
            <a:endParaRPr b="0" lang="en-US" sz="14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Turan Kitap evi</a:t>
            </a:r>
            <a:endParaRPr b="0" lang="en-US" sz="14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Erler Cad. Nu: 12/1</a:t>
            </a:r>
            <a:endParaRPr b="0" lang="en-US" sz="14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Çankaya/Ankara</a:t>
            </a:r>
            <a:endParaRPr b="0" lang="en-US" sz="14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Ötüken Yayın Evi, </a:t>
            </a: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İSTANBUL</a:t>
            </a: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İlgi: 14.03.2000 tarih ve 24/26 sayılı yazınız.</a:t>
            </a: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Yayın eviniz tarafından 15. baskısı yapılan Tarık Buğra’nın Osmancık romanından 100 (yüz) adet gönderilmesini rica ederim. </a:t>
            </a: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İmza)</a:t>
            </a: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Ali Turan</a:t>
            </a:r>
            <a:endParaRPr b="0" lang="en-US" sz="1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187280" y="620640"/>
            <a:ext cx="763272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Resmi kurumların ve tüzel kişilik taşıyan kuruluşların birbirlerine yazdıkları resmi yazılara ve vatandaşların dilekçeyle bildirdikleri isteklerine resmi mektup denir. Dilekçeler bu bakımdan resmi mektup kabul edilir. Dilekçe yazarken aşağıda sıralanan kurallara dikkat edili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042560" y="-360"/>
            <a:ext cx="7705800" cy="6381720"/>
          </a:xfrm>
          <a:prstGeom prst="rect">
            <a:avLst/>
          </a:prstGeom>
          <a:noFill/>
          <a:ln w="0">
            <a:noFill/>
          </a:ln>
        </p:spPr>
        <p:txBody>
          <a:bodyPr anchor="t">
            <a:no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0" lang="en-US" sz="20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0" lang="en-US" sz="20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1</a:t>
            </a:r>
            <a:r>
              <a:rPr b="0" lang="tr-TR" sz="2000" spc="-1" strike="noStrike">
                <a:solidFill>
                  <a:srgbClr val="000000"/>
                </a:solidFill>
                <a:latin typeface="Calibri"/>
              </a:rPr>
              <a:t>. Dilekçe, çizgisiz beyaz kâğıda yazılmalıdır. Kesinlikle yarım kâğıt kullanılmamalıdır. Kâğıdın arka yüzüne geçilmemelidir, çok gerekli ise ikinci kâğıt kullanılmalıdır.</a:t>
            </a:r>
            <a:endParaRPr b="0" lang="en-US" sz="20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2.</a:t>
            </a:r>
            <a:r>
              <a:rPr b="0" lang="tr-TR" sz="2000" spc="-1" strike="noStrike">
                <a:solidFill>
                  <a:srgbClr val="000000"/>
                </a:solidFill>
                <a:latin typeface="Calibri"/>
              </a:rPr>
              <a:t> Dilekçe, bilgisayar, daktilo veya dolma kalemle yazılabilir. Tükenmez kalem, mavi ve siyah mürekkepli kalemler dışında başka renkli kalemlerle yazılmaz.</a:t>
            </a:r>
            <a:endParaRPr b="0" lang="en-US" sz="20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3</a:t>
            </a:r>
            <a:r>
              <a:rPr b="0" lang="tr-TR" sz="2000" spc="-1" strike="noStrike">
                <a:solidFill>
                  <a:srgbClr val="000000"/>
                </a:solidFill>
                <a:latin typeface="Calibri"/>
              </a:rPr>
              <a:t>. Dilekçe metni uzun olmayacağı için yazı, sayfaya kenar boşluklarına dikkat edilerek güzel bir kompozisyonla yerleştirilmelidir.</a:t>
            </a:r>
            <a:endParaRPr b="0" lang="en-US" sz="20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4T11:45:32Z</dcterms:created>
  <dc:creator>tuba</dc:creator>
  <dc:description/>
  <dc:language>en-US</dc:language>
  <cp:lastModifiedBy>pc</cp:lastModifiedBy>
  <dcterms:modified xsi:type="dcterms:W3CDTF">2018-03-30T19:48:55Z</dcterms:modified>
  <cp:revision>22</cp:revision>
  <dc:subject/>
  <dc:title>Slayt 1</dc:title>
</cp:coreProperties>
</file>